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CAC-A2BB-4805-A5B5-BEFD6AB9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A0A-B6C3-4B6D-882A-488069D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CF5-3300-462F-AD01-58F3633A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905-EB3A-4631-92E3-E8CFFD1D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F250-427F-4FE4-BC52-7387B53D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E2E-6266-4CAE-B238-B2C025C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ABE8-1007-4599-A413-EB63511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082A-A8A8-4A63-8EC7-04D4BCA2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D84-BE36-4722-A57D-01AE75D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0F4-4745-4A1D-8A19-4C8FEC4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AC84-63F7-46CC-81DB-58CBFC0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B58-AD1D-4ADB-B527-FDE7518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9455-B754-4200-80B4-AC212E3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D25B-342D-48BC-837C-A03C2EA9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4FF6-D75C-43D7-BA85-F2555B1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23E6-0035-4DFF-8CD3-932CB773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214-8117-4A06-BF83-98A7E1A9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DB0-1C6C-4328-8C67-DBE7B79D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54D-DCF1-430C-9A58-2C46D47F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BA4-10E9-4BC7-BC2A-7DAC38D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A1E-C9EB-4D40-B568-C5982F51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EAA-E8DD-47C5-AD71-B86F899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2BD-9ABD-4E2C-87CE-82148DC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279-F856-4EF1-8560-B5458D86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C33-65E1-412A-AA53-8F1A7CECF7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2B4-7251-46FE-9E32-2B1923DD46F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2438280"/>
            <a:ext cx="3276360" cy="1218960"/>
            <a:chOff x="914400" y="2438280"/>
            <a:chExt cx="3276360" cy="1218960"/>
          </a:xfrm>
        </p:grpSpPr>
        <p:sp>
          <p:nvSpPr>
            <p:cNvPr id="134" name=""/>
            <p:cNvSpPr/>
            <p:nvPr/>
          </p:nvSpPr>
          <p:spPr>
            <a:xfrm>
              <a:off x="914400" y="2438280"/>
              <a:ext cx="3276360" cy="12189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62280" y="2438280"/>
              <a:ext cx="3170520" cy="11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19360" y="240804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sider a vision system used to detect zebra in static imag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It has a “stripey area” operator to help it do this (the evidence 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h=zebra present) = 0.02 (prior established during training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Assume the “stripey area” operator is discrete valued (true/fals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e=true|h=true)=0.8 (it’s a fairly good detector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Let p(e=true|h=false)=0.1 (there are non-zebra items with stripes in the data set – like the gate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Given e, we can establish p(h=true|e=true) …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Foto04-sam%20&amp;%20Zebra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225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Foto04-sam%20&amp;%20Zebra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2225520" cy="28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2590920"/>
                <a:ext cx="5181480" cy="33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34320" y="6024600"/>
            <a:ext cx="61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e that this is an increase over the prior = 0.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ue to the evidence 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pre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pite our intuition, our detector does not seem very “good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, only 1 in 50 images had a ze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 means that 49 out of 50 do not contain a zebra and the detector is not 100% reliable. Some of these images will be incorrectly determined as having a ze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ing to account for “negative” evidence properly is a typical failing of human intuitive reaso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ving on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uman intuition is not very Bayesian (e.g. Kahneman et al., 1982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 sure to apply Bayes theory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networks help us to organise our thinking cle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usality and Bayesian networks are rel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148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mpact representation of the joint probability over a set of variable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Each variable is represented as a node. Each variable can be discrete or continuou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ditional independence assumptions are encoded using a set of arc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Set of nodes and arcs is referred to as a graph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No arcs imply nodes are conditionally independent of each other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Different types of graph exist. The one shown is a Directed Acyclic Graph (DAG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networks - terminolo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165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called a root node and has a prior only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B,D, and E are called leaf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“causes” B and “causes” C. So value of A determines value of B and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the parent nodes of B and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B and C are child nodes of A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To determine E, you need only to know C. E is conditionally independent of A given C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39720" y="5470560"/>
            <a:ext cx="5410440" cy="1219320"/>
          </a:xfrm>
          <a:prstGeom prst="rect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coding conditional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57400" y="2438280"/>
            <a:ext cx="3809880" cy="914400"/>
            <a:chOff x="2057400" y="2438280"/>
            <a:chExt cx="3809880" cy="914400"/>
          </a:xfrm>
        </p:grpSpPr>
        <p:grpSp>
          <p:nvGrpSpPr>
            <p:cNvPr id="183" name=""/>
            <p:cNvGrpSpPr/>
            <p:nvPr/>
          </p:nvGrpSpPr>
          <p:grpSpPr>
            <a:xfrm>
              <a:off x="2057400" y="2438280"/>
              <a:ext cx="914400" cy="914400"/>
              <a:chOff x="2057400" y="2438280"/>
              <a:chExt cx="914400" cy="914400"/>
            </a:xfrm>
          </p:grpSpPr>
          <p:sp>
            <p:nvSpPr>
              <p:cNvPr id="184" name=""/>
              <p:cNvSpPr/>
              <p:nvPr/>
            </p:nvSpPr>
            <p:spPr>
              <a:xfrm>
                <a:off x="205740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8816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504960" y="2438280"/>
              <a:ext cx="914400" cy="914400"/>
              <a:chOff x="3504960" y="2438280"/>
              <a:chExt cx="914400" cy="9144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496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11320" y="2666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952880" y="2438280"/>
              <a:ext cx="914400" cy="914400"/>
              <a:chOff x="4952880" y="2438280"/>
              <a:chExt cx="914400" cy="914400"/>
            </a:xfrm>
          </p:grpSpPr>
          <p:sp>
            <p:nvSpPr>
              <p:cNvPr id="190" name=""/>
              <p:cNvSpPr/>
              <p:nvPr/>
            </p:nvSpPr>
            <p:spPr>
              <a:xfrm>
                <a:off x="4952880" y="2438280"/>
                <a:ext cx="914400" cy="9144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259600" y="2666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71800" y="2895480"/>
              <a:ext cx="533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360" y="2895480"/>
              <a:ext cx="533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7400" y="3429000"/>
                <a:ext cx="5181480" cy="20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</m:t>
                        </m:r>
                        <m:r>
                          <m:t xml:space="preserve">C</m:t>
                        </m:r>
                        <m:r>
                          <m:t xml:space="preserve">⊥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given 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ditional independenc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5486400"/>
                <a:ext cx="487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arent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936120" y="5791320"/>
            <a:ext cx="194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ACTO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REPRESENT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For a discrete node C with discrete parents A and B, the conditional probability term P(C|A,B) can be represented as a value tabl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52880" y="3948120"/>
          <a:ext cx="3048120" cy="23446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160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A,B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1069560" y="2743200"/>
            <a:ext cx="2666520" cy="3340800"/>
            <a:chOff x="1069560" y="2743200"/>
            <a:chExt cx="2666520" cy="3340800"/>
          </a:xfrm>
        </p:grpSpPr>
        <p:sp>
          <p:nvSpPr>
            <p:cNvPr id="201" name=""/>
            <p:cNvSpPr/>
            <p:nvPr/>
          </p:nvSpPr>
          <p:spPr>
            <a:xfrm>
              <a:off x="1630800" y="33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600" y="4900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67400" y="3344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20960" y="4068720"/>
              <a:ext cx="2286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30440" y="4068720"/>
              <a:ext cx="4572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9560" y="274320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red,green,blu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2160" y="274464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true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50400" y="574668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true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8080" y="3220920"/>
              <a:ext cx="1006200" cy="8510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29000" y="3233880"/>
              <a:ext cx="1006200" cy="85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8000" y="4751280"/>
              <a:ext cx="1006560" cy="8510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r a continuous node C with continuous parents A and B, the conditional probability term P(C|A,B) can be represented as a fun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35160" y="3078000"/>
            <a:ext cx="2361600" cy="2590560"/>
            <a:chOff x="1235160" y="3078000"/>
            <a:chExt cx="2361600" cy="2590560"/>
          </a:xfrm>
        </p:grpSpPr>
        <p:sp>
          <p:nvSpPr>
            <p:cNvPr id="215" name=""/>
            <p:cNvSpPr/>
            <p:nvPr/>
          </p:nvSpPr>
          <p:spPr>
            <a:xfrm>
              <a:off x="1235160" y="3078000"/>
              <a:ext cx="106632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30080" y="307800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280" y="467820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2000" y="328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81240" y="490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0600" y="4068360"/>
              <a:ext cx="22824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29720" y="4068360"/>
              <a:ext cx="45684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3" name="2Dmeshb" descr=""/>
          <p:cNvPicPr/>
          <p:nvPr/>
        </p:nvPicPr>
        <p:blipFill>
          <a:blip r:embed="rId1"/>
          <a:stretch/>
        </p:blipFill>
        <p:spPr>
          <a:xfrm>
            <a:off x="4800600" y="3639960"/>
            <a:ext cx="3657600" cy="32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412240" y="609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3320" y="6172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185720" y="4883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c|A,B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fying the Conditional Probability Term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 a continuous node C with 1 continuous parent A and and 1 discrete parent B, the conditional probability term P(C|A,B) can be represented as a set of functions (the continuous function is selected according to a “context” determined by 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495680" y="4267080"/>
            <a:ext cx="3581640" cy="2441160"/>
            <a:chOff x="4495680" y="4267080"/>
            <a:chExt cx="3581640" cy="2441160"/>
          </a:xfrm>
        </p:grpSpPr>
        <p:sp>
          <p:nvSpPr>
            <p:cNvPr id="230" name=""/>
            <p:cNvSpPr/>
            <p:nvPr/>
          </p:nvSpPr>
          <p:spPr>
            <a:xfrm>
              <a:off x="4952880" y="4267080"/>
              <a:ext cx="0" cy="198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52880" y="6248520"/>
              <a:ext cx="3124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27680" y="4635360"/>
              <a:ext cx="2921040" cy="1638360"/>
            </a:xfrm>
            <a:custGeom>
              <a:avLst/>
              <a:gdLst/>
              <a:ahLst/>
              <a:rect l="l" t="t" r="r" b="b"/>
              <a:pathLst>
                <a:path w="1840" h="1032">
                  <a:moveTo>
                    <a:pt x="16" y="1016"/>
                  </a:moveTo>
                  <a:cubicBezTo>
                    <a:pt x="8" y="1024"/>
                    <a:pt x="0" y="1032"/>
                    <a:pt x="64" y="968"/>
                  </a:cubicBezTo>
                  <a:cubicBezTo>
                    <a:pt x="128" y="904"/>
                    <a:pt x="248" y="680"/>
                    <a:pt x="400" y="632"/>
                  </a:cubicBezTo>
                  <a:cubicBezTo>
                    <a:pt x="552" y="584"/>
                    <a:pt x="792" y="776"/>
                    <a:pt x="976" y="680"/>
                  </a:cubicBezTo>
                  <a:cubicBezTo>
                    <a:pt x="1160" y="584"/>
                    <a:pt x="1360" y="0"/>
                    <a:pt x="1504" y="56"/>
                  </a:cubicBezTo>
                  <a:cubicBezTo>
                    <a:pt x="1648" y="112"/>
                    <a:pt x="1792" y="848"/>
                    <a:pt x="1840" y="1016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4483080"/>
              <a:ext cx="2819520" cy="1689120"/>
            </a:xfrm>
            <a:custGeom>
              <a:avLst/>
              <a:gdLst/>
              <a:ahLst/>
              <a:rect l="l" t="t" r="r" b="b"/>
              <a:pathLst>
                <a:path w="1776" h="1064">
                  <a:moveTo>
                    <a:pt x="0" y="824"/>
                  </a:moveTo>
                  <a:cubicBezTo>
                    <a:pt x="112" y="700"/>
                    <a:pt x="224" y="576"/>
                    <a:pt x="336" y="536"/>
                  </a:cubicBezTo>
                  <a:cubicBezTo>
                    <a:pt x="448" y="496"/>
                    <a:pt x="568" y="512"/>
                    <a:pt x="672" y="584"/>
                  </a:cubicBezTo>
                  <a:cubicBezTo>
                    <a:pt x="776" y="656"/>
                    <a:pt x="888" y="1064"/>
                    <a:pt x="960" y="968"/>
                  </a:cubicBezTo>
                  <a:cubicBezTo>
                    <a:pt x="1032" y="872"/>
                    <a:pt x="1032" y="16"/>
                    <a:pt x="1104" y="8"/>
                  </a:cubicBezTo>
                  <a:cubicBezTo>
                    <a:pt x="1176" y="0"/>
                    <a:pt x="1280" y="840"/>
                    <a:pt x="1392" y="920"/>
                  </a:cubicBezTo>
                  <a:cubicBezTo>
                    <a:pt x="1504" y="1000"/>
                    <a:pt x="1640" y="744"/>
                    <a:pt x="1776" y="4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8040" y="624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4109400" y="511164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c|A,B)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235160" y="2744640"/>
            <a:ext cx="2500920" cy="2924280"/>
            <a:chOff x="1235160" y="2744640"/>
            <a:chExt cx="2500920" cy="2924280"/>
          </a:xfrm>
        </p:grpSpPr>
        <p:sp>
          <p:nvSpPr>
            <p:cNvPr id="237" name=""/>
            <p:cNvSpPr/>
            <p:nvPr/>
          </p:nvSpPr>
          <p:spPr>
            <a:xfrm>
              <a:off x="1235160" y="30780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44640" y="4678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2360" y="328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81600" y="4900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67400" y="331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0960" y="4068720"/>
              <a:ext cx="2286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30440" y="4068720"/>
              <a:ext cx="4572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12160" y="274464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{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rue</a:t>
              </a: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,false}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29000" y="3233880"/>
              <a:ext cx="1006200" cy="85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inder of probability the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rected Acyclic Graph (DA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14400" y="2895480"/>
            <a:ext cx="2590920" cy="2971800"/>
            <a:chOff x="914400" y="2895480"/>
            <a:chExt cx="2590920" cy="2971800"/>
          </a:xfrm>
        </p:grpSpPr>
        <p:sp>
          <p:nvSpPr>
            <p:cNvPr id="248" name=""/>
            <p:cNvSpPr/>
            <p:nvPr/>
          </p:nvSpPr>
          <p:spPr>
            <a:xfrm>
              <a:off x="1752840" y="289548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44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7240" y="510552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3886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0200" y="5029200"/>
              <a:ext cx="83844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523880" y="365760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3657600"/>
              <a:ext cx="38088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133720" y="4648320"/>
              <a:ext cx="45720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4648320"/>
              <a:ext cx="22860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360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764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16920" y="515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44800" y="402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167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28840" y="2468160"/>
            <a:ext cx="472428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Arcs encode “causal” relationships between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No more than 1 path (regardless of arc direction) between any node and any other nod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If we added dotted red arc, we would have a loopy graph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Loopy graphs can be approximated by acyclic ones for inference, but this is outside the scope of this course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4648320"/>
            <a:ext cx="304560" cy="45720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wo most useful modes of inference are PREDICTIVE (from root to leaf) and DIAGNOSTIC (from leaf to ro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ct and approximate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act methods exist for Directed Acyclic Graphs (DAG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pproximations exists for other graph 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600200" y="3505320"/>
            <a:ext cx="5151240" cy="1341360"/>
            <a:chOff x="1600200" y="3505320"/>
            <a:chExt cx="5151240" cy="1341360"/>
          </a:xfrm>
        </p:grpSpPr>
        <p:sp>
          <p:nvSpPr>
            <p:cNvPr id="267" name=""/>
            <p:cNvSpPr/>
            <p:nvPr/>
          </p:nvSpPr>
          <p:spPr>
            <a:xfrm>
              <a:off x="1600200" y="3505320"/>
              <a:ext cx="5151240" cy="13413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1828800" y="3733920"/>
                  <a:ext cx="46688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sterio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ikelihood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prio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bability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rPr>
                              <m:lit/>
                              <m:nor/>
                            </m:rPr>
                            <m:t xml:space="preserve">evidenc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 rule allows us to deal with uncertai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ian networks encode conditional independence. Simple DAGs can be used n causal and diagnostic m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 of inference using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Bayesian reasoning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www.csse.monash.edu.au/b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is Bayes rule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: dealing with uncertain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Bayes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294336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22840" y="5985000"/>
            <a:ext cx="31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v. THOMAS BA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702-176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514600"/>
            <a:ext cx="472428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urces of uncertainty e.g.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gnor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hysical random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gu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probability theory to reason about uncertain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careful to understand what you mean by probability and use it consistent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equency analy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li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(x)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single continuous value in the range [0,1]. Think of either as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“x is true in 0.7 of cases”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frequentist)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of “I believe x = true with probability 0.7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(X)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ten (but not always) used to denote a distribution over a set of values, e.g. if X is discrete {x=true, x=false} then P(X) encompasses knowledge of both values. p(x=true) is then a single valu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895120"/>
            <a:ext cx="8029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int prob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4876920"/>
            <a:ext cx="802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752480" y="3581280"/>
                <a:ext cx="487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lso written as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816200" y="5410080"/>
                <a:ext cx="3987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</m:t>
                    </m:r>
                    <m:r>
                      <m:t xml:space="preserve">X</m:t>
                    </m:r>
                    <m:r>
                      <m:t xml:space="preserve">give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theory -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743200"/>
            <a:ext cx="8029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70200" y="3414600"/>
                <a:ext cx="5099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f </m:t>
                        </m:r>
                        <m:r>
                          <m:t xml:space="preserve">X</m:t>
                        </m:r>
                        <m:r>
                          <m:t xml:space="preserve">⊥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114560" y="4343400"/>
            <a:ext cx="8029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arginal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30240" y="5045040"/>
                <a:ext cx="373068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the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990720" cy="990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95480"/>
            <a:ext cx="990720" cy="990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21000" y="2590920"/>
                <a:ext cx="40546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3429000" y="4572000"/>
            <a:ext cx="5105520" cy="1325520"/>
            <a:chOff x="3429000" y="4572000"/>
            <a:chExt cx="5105520" cy="1325520"/>
          </a:xfrm>
        </p:grpSpPr>
        <p:sp>
          <p:nvSpPr>
            <p:cNvPr id="120" name=""/>
            <p:cNvSpPr/>
            <p:nvPr/>
          </p:nvSpPr>
          <p:spPr>
            <a:xfrm>
              <a:off x="3429000" y="4572000"/>
              <a:ext cx="5105520" cy="13255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597120" y="4602240"/>
                  <a:ext cx="475956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5034600" y="59436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YES RU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88620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rule – the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06400" y="3855960"/>
            <a:ext cx="5151240" cy="1325520"/>
            <a:chOff x="1706400" y="3855960"/>
            <a:chExt cx="5151240" cy="1325520"/>
          </a:xfrm>
        </p:grpSpPr>
        <p:sp>
          <p:nvSpPr>
            <p:cNvPr id="126" name=""/>
            <p:cNvSpPr/>
            <p:nvPr/>
          </p:nvSpPr>
          <p:spPr>
            <a:xfrm>
              <a:off x="1706400" y="3855960"/>
              <a:ext cx="5151240" cy="13255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782360" y="3855960"/>
                  <a:ext cx="4984920" cy="12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|</m:t>
                      </m:r>
                      <m:r>
                        <m:t xml:space="preserve">E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H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200" y="2437920"/>
            <a:ext cx="7800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 an illustration, let’s look at the conditional probability of a hypothesis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sed on some evidenc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92360" y="5289480"/>
            <a:ext cx="5151240" cy="1341360"/>
            <a:chOff x="1692360" y="5289480"/>
            <a:chExt cx="5151240" cy="1341360"/>
          </a:xfrm>
        </p:grpSpPr>
        <p:sp>
          <p:nvSpPr>
            <p:cNvPr id="130" name=""/>
            <p:cNvSpPr/>
            <p:nvPr/>
          </p:nvSpPr>
          <p:spPr>
            <a:xfrm>
              <a:off x="1692360" y="5289480"/>
              <a:ext cx="5151240" cy="134136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920960" y="5518080"/>
                  <a:ext cx="466884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sterio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ikelihood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prio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bability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rPr>
                              <m:lit/>
                              <m:nor/>
                            </m:rPr>
                            <m:t xml:space="preserve">evidenc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4:01:18Z</dcterms:modified>
  <cp:revision>95</cp:revision>
  <dc:subject/>
  <dc:title>Programming Techniques 804G5</dc:title>
</cp:coreProperties>
</file>